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DF87-CD29-4F36-87D1-D14635563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2D42-B891-4930-8A76-8D84264B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93C-A373-4C21-9917-1B75E17A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F62-D386-4B11-9F68-54D16FBD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7C8-ABBD-4CFF-A68D-33596CD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29B-8E56-45D8-AE59-84255A9D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257-6B03-403B-9450-939EBB8A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5EE-1B1A-4168-B8AD-03CBDDB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B07-9C62-4AA9-9003-1A83CED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9B1-3016-4E4D-ADE2-6CEDF62E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F4F-8A66-4E78-89C4-99603F42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CAE-BC12-4E10-B708-C47BA859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E2E-3E90-42D9-BE8B-659A5DF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15B-12E7-4ADF-979B-29285F7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A80-03B4-4B9B-8BBE-C9E151D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D29-133A-40B4-A417-7069CD0D3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Layout" Target="../slideLayouts/slideLayout1.xml"/><Relationship Id="rId4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stopping wants / des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Buddhist princliples, how do people STOP suff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ruled the first dynasty in the Huang Ho val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09480" y="1295280"/>
            <a:ext cx="8153640" cy="4572000"/>
          </a:xfrm>
          <a:prstGeom prst="wedgeRectCallout">
            <a:avLst>
              <a:gd name="adj1" fmla="val -20055"/>
              <a:gd name="adj2" fmla="val 73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oism means The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to happi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aoism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 follow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ightfold Pa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MIDDL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as the first private teacher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Confucius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ies.  They are locat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Harappa and Mohenjo – Daro?  Where are the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ddharta Gaut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founded (started) Buddh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2590920"/>
            <a:ext cx="7162920" cy="3124080"/>
          </a:xfrm>
          <a:prstGeom prst="wedgeRectCallout">
            <a:avLst>
              <a:gd name="adj1" fmla="val -21231"/>
              <a:gd name="adj2" fmla="val -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ligious song or po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Q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s the largest dynasty in Ancient Ch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ytheism means you bel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ore than one G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Monotheism and Polythe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ction Button: Custom 29">
            <a:hlinkClick r:id="rId41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ction Button: Custom 30">
            <a:hlinkClick r:id="rId4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ction Button: Custom 31">
            <a:hlinkClick r:id="rId43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838080" y="1752480"/>
            <a:ext cx="7772400" cy="4038840"/>
          </a:xfrm>
          <a:prstGeom prst="wedgeRectCallout">
            <a:avLst>
              <a:gd name="adj1" fmla="val -22509"/>
              <a:gd name="adj2" fmla="val -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ism uses the 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4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ri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ich religion uses the Caste System?  How many groups are there?  What are the names of the groups people are divided i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the trading path 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 silk from China to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 really happy you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peace with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aoism you must be happy with WHOM to be really hap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304920"/>
            <a:ext cx="8153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merigo B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09480" y="2286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445400" y="5335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hat are the three possible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the Harrappan Civ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may have e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Does anybody know what really happe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66680" y="2895480"/>
            <a:ext cx="7031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up all of thei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killed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KNOWS what REALLY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1430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us River Valley –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ang Ho Valley -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228600"/>
            <a:ext cx="70866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untry did the Indus River Valley civilization develop in?  What country did the Huang Ho Valley Civilization develop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the system that di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cial classes in the Hind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i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ast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soul lives a new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ing on your behavior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be better or worse tha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fe bef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38088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in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 / Ri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38088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ographical feature have ALL the civilizations we have discussed develop ar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originally built as a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Chinese to prot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 it is mainly used 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urist attr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14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38088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the Great Wall of China originally bui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s MAIN use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our main cla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TOUCHABLES. 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so low they are not 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idered a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lasses are there according to the Hindu religion?  And which group of people are SO LOW they are not even considered a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ling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obin Jadick</cp:lastModifiedBy>
  <cp:lastPrinted>2007-12-17T16:01:22Z</cp:lastPrinted>
  <dcterms:modified xsi:type="dcterms:W3CDTF">2011-01-06T17:20:17Z</dcterms:modified>
  <cp:revision>7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